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27C4-9284-4CBB-814C-9AB36C1FF2EE}" type="slidenum"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A78A-4945-42BD-9D72-F1D8CD400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BC4D-7D56-47C9-BF47-686455D3C0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47E2-C98B-4E8D-8FA2-46CF4EA9161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39ED-8658-49E9-A69B-133E5215C9A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FB49-9366-44E9-96F1-3BB074AA50D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18F4-EDA9-4B1D-ACFB-35451F5B58F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8458-7636-45AA-BCF1-D4A788FFDE0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E3CA-80E9-4EE8-9544-FEA3711265C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3732-783B-44FC-8987-2A6C55C642B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E70F-153F-4508-9990-617E533488E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2067-55F6-4E80-BB57-E860A99F8EE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B791-C934-4A5E-ACFD-E02FBA9D8E9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D7EC-F992-4F0D-81DD-DB6D93BDE90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B040-9739-4688-A6E8-943E5D8DB36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162A-FBED-437B-8647-AF2F5D44B46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ACC2-F04C-439C-93EB-2F72CE8FA19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7417-F194-4EB6-B189-4558A5A5BD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08D5-91F4-4828-A4BA-D4345F10E10C}" type="slidenum"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Анализа односа трошкова и користи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-benefit analysis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циљ: утврђује колико ресурса би требало применити да би се постигао дефинисани циљ, метода: пореди улазни и излазни параметар у новчаним јединица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Анализа корисности и трошкова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-utility analysis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циљ: 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утврђује најбољи начин за трошење доступног буџета здравствене нег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етода: пореди трошкове 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у односу на године здравог жив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Анализа исплативости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-effectiveness analysis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циљ: утврђује како циљ може најефикасније да се постигне, метода: пореди трошкове у односу на неку меру ис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Анализа минимизирања трошкова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-minimization analysis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циљ: процењује која од две једнако корисне опције лечења има мање трошкове, метода: пореди трошкове различитих једнако делотворних опција лечењ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4305600"/>
            <a:ext cx="77724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5104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430560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451040" y="430560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6360" y="198864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24000" y="198864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430560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6360" y="430560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24000" y="430560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37926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451040" y="1988640"/>
            <a:ext cx="37926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7792920" cy="55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51040" y="1988640"/>
            <a:ext cx="37926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360" y="430560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37926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5104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51040" y="430560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5104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4305600"/>
            <a:ext cx="77724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" y="4305600"/>
            <a:ext cx="77724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104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0560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451040" y="430560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6360" y="198864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24000" y="198864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" y="430560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6360" y="430560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724000" y="430560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37926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451040" y="1988640"/>
            <a:ext cx="37926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7792920" cy="55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51040" y="1988640"/>
            <a:ext cx="37926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430560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37926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5104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451040" y="430560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104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4305600"/>
            <a:ext cx="77724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Интегрисане академске студије </a:t>
            </a:r>
            <a:r>
              <a:rPr b="0" lang="sr-RS" sz="2400" spc="-1" strike="noStrike">
                <a:solidFill>
                  <a:srgbClr val="333399"/>
                </a:solidFill>
                <a:latin typeface="Tahoma"/>
              </a:rPr>
              <a:t>стоматологије</a:t>
            </a: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333399"/>
                </a:solidFill>
                <a:latin typeface="Tahoma"/>
              </a:rPr>
              <a:t>И11 ЗДРАВСТВЕНА ЕКОНОМИЈА 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333399"/>
                </a:solidFill>
                <a:latin typeface="Tahoma"/>
              </a:rPr>
              <a:t>Анализа минимизације трошкова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Анализа трошкови-</a:t>
            </a:r>
            <a:r>
              <a:rPr b="1" lang="sr-RS" sz="2400" spc="-1" strike="noStrike">
                <a:solidFill>
                  <a:srgbClr val="333399"/>
                </a:solidFill>
                <a:latin typeface="Tahoma"/>
              </a:rPr>
              <a:t>добит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(COST/BENEFIT).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R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недељ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Про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др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таша Ђорђевић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Анализа минимизације трошкова</a:t>
            </a:r>
            <a:br>
              <a:rPr sz="3600"/>
            </a:br>
            <a:r>
              <a:rPr b="0" lang="sr-CS" sz="3200" spc="-1" strike="noStrike">
                <a:solidFill>
                  <a:srgbClr val="333399"/>
                </a:solidFill>
                <a:latin typeface="Tahoma"/>
              </a:rPr>
              <a:t>- студије не-инфериорности -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Циљ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утврдити да ли алтернативни начин лечења није лошији од ''златног стандарда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ритеријум за процену еквивалентности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најмања клинички прихватљива разлика у исходима алтернативног начина лечења и ''златног стандарда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римена у анализи минимизирања трошков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резултат студије не-инфериорности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ahoma"/>
              </a:rPr>
              <a:t>не може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 се употребити као довољан доказ еквивалентности исхода лечења алтернативним начином и ''златним стандардом''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Анализа минимизације трошкова</a:t>
            </a:r>
            <a:br>
              <a:rPr sz="3600"/>
            </a:br>
            <a:r>
              <a:rPr b="0" lang="sr-CS" sz="3200" spc="-1" strike="noStrike">
                <a:solidFill>
                  <a:srgbClr val="333399"/>
                </a:solidFill>
                <a:latin typeface="Tahoma"/>
              </a:rPr>
              <a:t>- студије еквиваленције -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2017440"/>
            <a:ext cx="81010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Циљ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утврдити да ли је алтернативни начин лечења (јефтинији) ефикасан/безбедан као и ''златни стандард'' (скупљ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ритеријум за процену еквивалентности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највећа клинички прихватљива разлика у исходима алтернативног начина лечења и ''златног стандарда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римена у анализи минимизирања трошков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тат студије еквиваленције представља   најадекватнији доказ еквивалентности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схода лечења алтернативним начином и ''златним стандардом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одређена мала разлика у исходима лечења ипак се           не може искључити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Анализа минимизације трошкова</a:t>
            </a:r>
            <a:br>
              <a:rPr sz="3600"/>
            </a:br>
            <a:r>
              <a:rPr b="0" lang="sr-CS" sz="3200" spc="-1" strike="noStrike">
                <a:solidFill>
                  <a:srgbClr val="333399"/>
                </a:solidFill>
                <a:latin typeface="Tahoma"/>
              </a:rPr>
              <a:t>- применљивост у пракси -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Очекивани бенефи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увођење јефтинијих а једнако добрих начина лечења у клиничку пракс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адекватно преусмеравање ограничених ресурса ка најоптималнијим алтернативама лечењ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еопходни услов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примена валидних, тачних и одговарајућих метода евалуације исхода лечењ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примена 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лиз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минимизирања трошкова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 само у случају клинички доказане еквивалентности алтернативних третма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Интегрисане академске студије </a:t>
            </a:r>
            <a:r>
              <a:rPr b="0" lang="sr-RS" sz="2400" spc="-1" strike="noStrike">
                <a:solidFill>
                  <a:srgbClr val="333399"/>
                </a:solidFill>
                <a:latin typeface="Tahoma"/>
              </a:rPr>
              <a:t>стоматологије</a:t>
            </a: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333399"/>
                </a:solidFill>
                <a:latin typeface="Tahoma"/>
              </a:rPr>
              <a:t>И11 ЗДРАВСТВЕНА ЕКОНОМИЈА </a:t>
            </a:r>
            <a:br>
              <a:rPr sz="2400"/>
            </a:br>
            <a:br>
              <a:rPr sz="24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нализа трошкови-</a:t>
            </a:r>
            <a:r>
              <a:rPr b="0" lang="sr-RS" sz="3200" spc="-1" strike="noStrike">
                <a:solidFill>
                  <a:srgbClr val="333399"/>
                </a:solidFill>
                <a:latin typeface="Tahoma"/>
              </a:rPr>
              <a:t>добит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COST/BENEFIT).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2400"/>
            </a:br>
            <a:br>
              <a:rPr sz="2400"/>
            </a:br>
            <a:r>
              <a:rPr b="1" lang="sr-RS" sz="24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sr-R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недељ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333399"/>
                </a:solidFill>
                <a:latin typeface="Tahoma"/>
              </a:rPr>
              <a:t>Проф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др </a:t>
            </a:r>
            <a:r>
              <a:rPr b="1" lang="sr-RS" sz="2000" spc="-1" strike="noStrike">
                <a:solidFill>
                  <a:srgbClr val="333399"/>
                </a:solidFill>
                <a:latin typeface="Tahoma"/>
              </a:rPr>
              <a:t>Слободан Јанкови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2424a8"/>
                </a:solidFill>
                <a:latin typeface="Tahoma"/>
              </a:rPr>
              <a:t>Дефинициј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Трошкови и бенефити се мере у истим, монетарним јединица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>
              <a:spcBef>
                <a:spcPts val="601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Нето друштвени бенеф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Монетарни бенефити током датог пери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596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ahoma"/>
              </a:rPr>
              <a:t>дисконтовани за годишњу каматну стопу током датог пери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Монетарни трошкови током датог пери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596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ahoma"/>
              </a:rPr>
              <a:t>дисконтовани за годишњу каматну стопу током датог пери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Идентификовати пројекте са нето бенефитом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0</a:t>
            </a: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 или количником бенфита и трошкоа већим од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2424a8"/>
                </a:solidFill>
                <a:latin typeface="Tahoma"/>
              </a:rPr>
              <a:t>Карактеристик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Приступ или анализ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Око две трећине студија нису потпуне анализе трошкови-бенефи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596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ahoma"/>
              </a:rPr>
              <a:t>трошкови самог програма и трошкови без ње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096920" indent="-17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5000"/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уштеда у трошковим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без учешћа монетарних бенефи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Оправданости здравственог програм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индивидуални конзумент вреднује исход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Ширина сагледавањ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унутар и између различитих сектора економиј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екстерналије (преливањ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широк опсег ефека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2424a8"/>
                </a:solidFill>
                <a:latin typeface="Tahoma"/>
              </a:rPr>
              <a:t>Етички аспект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Опредељењ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Највећа добробит за највећи број, и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Једнакос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>
              <a:spcBef>
                <a:spcPts val="601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Људски живот и квалитет таквог живота се вреднује новце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дилема и за доносиоце одлу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>
              <a:spcBef>
                <a:spcPts val="601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Здравствени радник вс. економист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добробит болесни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економска доброби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>
              <a:spcBef>
                <a:spcPts val="601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Богати вс. сиромашн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спремност да се пла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596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2424a8"/>
                </a:solidFill>
                <a:latin typeface="Tahoma"/>
              </a:rPr>
              <a:t>Етички аспект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Претпоставк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Добробит друштва се састоји од добробити сваког члана заједниц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Појединац најбоље процењује сопствене кори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>
              <a:spcBef>
                <a:spcPts val="601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Принцип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Актуелни Парето принцип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596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ahoma"/>
              </a:rPr>
              <a:t>један или више особа имају бенефите а нико нема штет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Потенцијални Парето принцип (Калдор-Хикс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596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ahoma"/>
              </a:rPr>
              <a:t>добитници и губитници, али добитници компензују губитнике тако да читава заједница проспери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096920" indent="-173160">
              <a:spcBef>
                <a:spcPts val="499"/>
              </a:spcBef>
              <a:buClr>
                <a:srgbClr val="ffffff"/>
              </a:buClr>
              <a:buSzPct val="55000"/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компензациј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ко губ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ко добиј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596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2424a8"/>
                </a:solidFill>
                <a:latin typeface="Tahoma"/>
              </a:rPr>
              <a:t>Одређивање бенеф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Додељивање монетарне вредности здравственим исходи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1640" indent="-51444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Приступ према људском капитал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engl. human capital approach – HC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71640" indent="-51444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Обелодањен приорите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engl. revealed preferen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71640" indent="-51444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Утврђен приорите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engl. stated preferen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596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ahoma"/>
              </a:rPr>
              <a:t>потенцијалне вредност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engl. contingent valu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596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ahoma"/>
              </a:rPr>
              <a:t>модел дискретног одабир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sr-RS" sz="1800" spc="-1" strike="noStrike">
                <a:solidFill>
                  <a:srgbClr val="000000"/>
                </a:solidFill>
                <a:latin typeface="Tahoma"/>
              </a:rPr>
              <a:t>обједињена анализ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engl. discrete choice modelling – conjoint analysi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2424a8"/>
                </a:solidFill>
                <a:latin typeface="Tahoma"/>
              </a:rPr>
              <a:t>Израчунавањ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Нето друштвени бенеф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Монетарни бенефити током датог пери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596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ahoma"/>
              </a:rPr>
              <a:t>дисконтовани за годишњу каматну стопу током датог пери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Монетарни трошкови током датог пери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596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ahoma"/>
              </a:rPr>
              <a:t>дисконтовани за годишњу каматну стопу током датог пери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Идентификовати пројекте са нето бенефитом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>
              <a:spcBef>
                <a:spcPts val="601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Око две трећине студија нису потпуне анализе трошкови-бенеф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трошкови самог програма и трошкови без њег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596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ahoma"/>
              </a:rPr>
              <a:t>уштеда у трошковим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Tahoma"/>
              </a:rPr>
              <a:t>без учешћа монетарних бенефи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Фармакоекономиј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Дефинициј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333399"/>
                </a:solidFill>
                <a:latin typeface="Tahoma"/>
              </a:rPr>
              <a:t>Фармакоекономија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је наука која се бави описом и анализом трошкова терапије лековима у оквиру система здравствене заштите и друштва у целин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иљев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дентификација, мерење, вредновање и поређење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оследиц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трошков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различитих алтернатива у лечењу које се разматрај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казивање на најбољу алтернативу из перспективе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схода лечењ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 клиничких, хуманистичких и економски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2424a8"/>
                </a:solidFill>
                <a:latin typeface="Tahoma"/>
              </a:rPr>
              <a:t>Приступ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Приступ људском капитал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Бенефити у виду монетарне вредности сачуване радне продуктив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груба процена доње границе спремности за плаћањ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Обелодањен приорит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Бенефити трансакције за индивиду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трговина (одабир) између очекиваних додатних ризика и очекиване додатне зарад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2424a8"/>
                </a:solidFill>
                <a:latin typeface="Tahoma"/>
              </a:rPr>
              <a:t>Метод потенцијалних вреднос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550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ahoma"/>
              </a:rPr>
              <a:t>Хипотетичко тржиште здравствених интервенциј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29320">
              <a:spcBef>
                <a:spcPts val="476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Tahoma"/>
              </a:rPr>
              <a:t>пацијент, старатељ, друштво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53880" indent="-273960">
              <a:spcBef>
                <a:spcPts val="550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ahoma"/>
              </a:rPr>
              <a:t>Максимални износ новца који би се платио за интервенцију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29320">
              <a:spcBef>
                <a:spcPts val="476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ngl. willingness to pay (WTP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53880" indent="-273960">
              <a:spcBef>
                <a:spcPts val="550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ahoma"/>
              </a:rPr>
              <a:t>Минимални износ новца који би се добио као компензација за непримењену интервенцију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29320">
              <a:spcBef>
                <a:spcPts val="476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ngl. willingness to accept (WTA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53880" indent="-273960">
              <a:spcBef>
                <a:spcPts val="550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ahoma"/>
              </a:rPr>
              <a:t>Спроводи се путем различито дизајнираних упитник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53880" indent="-273960">
              <a:spcBef>
                <a:spcPts val="550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ahoma"/>
              </a:rPr>
              <a:t>Проблеми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29320">
              <a:spcBef>
                <a:spcPts val="476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Tahoma"/>
              </a:rPr>
              <a:t>изостанак одговора, бијас почетне тачке, утицај других фактора осим цене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2424a8"/>
                </a:solidFill>
                <a:latin typeface="Tahoma"/>
              </a:rPr>
              <a:t>Спремност за плаћање </a:t>
            </a:r>
            <a:r>
              <a:rPr b="0" lang="en-US" sz="4000" spc="-1" strike="noStrike">
                <a:solidFill>
                  <a:srgbClr val="2424a8"/>
                </a:solidFill>
                <a:latin typeface="Tahoma"/>
              </a:rPr>
              <a:t>(WTP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Каква(су питања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 Ком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K</a:t>
            </a: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ако (се постављају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>
              <a:spcBef>
                <a:spcPts val="601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Тип услуга или добар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сигурни здравствени исход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несигурни здравствени исход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W*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несигурна и употреба и здравствени исход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W**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>
              <a:spcBef>
                <a:spcPts val="601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Феномен преливањ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ngl. spillov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нездравствене доби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596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ahoma"/>
              </a:rPr>
              <a:t>нпр. програм вакцинације који укључује особе у окружењ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2424a8"/>
                </a:solidFill>
                <a:latin typeface="Tahoma"/>
              </a:rPr>
              <a:t>Дизајн питања у </a:t>
            </a:r>
            <a:r>
              <a:rPr b="0" lang="en-US" sz="4000" spc="-1" strike="noStrike">
                <a:solidFill>
                  <a:srgbClr val="2424a8"/>
                </a:solidFill>
                <a:latin typeface="Tahoma"/>
              </a:rPr>
              <a:t>WT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Отворе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широк распон одгово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нереспондер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протесни респондер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Затворе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аукцијс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бијас почетне тачк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узми или остави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бијас почетног ран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2424a8"/>
                </a:solidFill>
                <a:latin typeface="Tahoma"/>
              </a:rPr>
              <a:t>Типови подата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ahoma"/>
              </a:rPr>
              <a:t>Категоријални (квалитативни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Tahoma"/>
              </a:rPr>
              <a:t>2 категорије (бинарни, дихотомни, атрибутивни, да/не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88596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ahoma"/>
              </a:rPr>
              <a:t>мушки/женски; хипертензивни/нормотензивни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Tahoma"/>
              </a:rPr>
              <a:t>3 и више категорија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88596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ahoma"/>
              </a:rPr>
              <a:t>номинални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96920" indent="-1731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55000"/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Tahoma"/>
              </a:rPr>
              <a:t>крвна група: А/Б/АБ/О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88596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ahoma"/>
              </a:rPr>
              <a:t>ординални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96920" indent="-1731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55000"/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Tahoma"/>
              </a:rPr>
              <a:t>непушач/бивши пушач/лаки пушач/тешки пушач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ahoma"/>
              </a:rPr>
              <a:t>Нумерички (квантитативни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Tahoma"/>
              </a:rPr>
              <a:t>дискретни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88596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ahoma"/>
              </a:rPr>
              <a:t>број деце: 0, 1, 2, 3, 4, 5, итд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Tahoma"/>
              </a:rPr>
              <a:t>континуирани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88596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Tahoma"/>
              </a:rPr>
              <a:t>телесна тежина: 54.5 кг, 67.3 кг, 78.4 кг итд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2424a8"/>
                </a:solidFill>
                <a:latin typeface="Tahoma"/>
              </a:rPr>
              <a:t>Модел дискретног одабир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Мултиатрибутивна теорија кори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ahoma"/>
              </a:rPr>
              <a:t>Избор лека/програма са више различитих каратеристика/атрибута (са или без цене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596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ahoma"/>
              </a:rPr>
              <a:t>приближније реалном тржишт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Корак 1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ahoma"/>
              </a:rPr>
              <a:t>избор атрибута (4-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Корак 2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ahoma"/>
              </a:rPr>
              <a:t>ниво вредности атрибу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Корак 2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ahoma"/>
              </a:rPr>
              <a:t>спектар могућих опција за одабир (сценаријо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Tahoma"/>
              </a:rPr>
              <a:t>Корак 4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ahoma"/>
              </a:rPr>
              <a:t>преференца најбољег сценариј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Tahoma"/>
              </a:rPr>
              <a:t>Корак 5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ahoma"/>
              </a:rPr>
              <a:t>анализа податак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2424a8"/>
                </a:solidFill>
                <a:latin typeface="Tahoma"/>
              </a:rPr>
              <a:t>За и против дискретног одабир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Пред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Сагледавање нездравствених карактеристи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Релативно вредновање појединачних атрибу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>
              <a:spcBef>
                <a:spcPts val="601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Тешкоћ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Интерна валиднос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Конзистетнтос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Тест-ретест поузданос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Укључивање атрибута цена/троша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596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ahoma"/>
              </a:rPr>
              <a:t>ни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596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ahoma"/>
              </a:rPr>
              <a:t>интерва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2424a8"/>
                </a:solidFill>
                <a:latin typeface="Tahoma"/>
              </a:rPr>
              <a:t>Правила одлучивањ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Нето бенеф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бира се програм/лек са највећим нето бенефито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Количник бенефита и трошко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бира се сваки програм/лек са количником већим од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Правила одлучивања зависе од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врсте буџета: неограничени или огранич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односа две интервенције: независни или међусобно искључив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Тешкоћ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варијабилност процене у зависности од мет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релевантност процене за дати контекс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губитак  опортуних бенефи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2424a8"/>
                </a:solidFill>
                <a:latin typeface="Tahoma"/>
              </a:rPr>
              <a:t>Закључак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Корисна анализа иако не обезбеђује сву основу за одлучивањ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>
              <a:spcBef>
                <a:spcPts val="601"/>
              </a:spcBef>
              <a:buClr>
                <a:srgbClr val="3333cc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 and cons / Pro et contra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омогућава разматрање алокативне ефикас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индивидуално вредновање појединачних атрибута здравствених интервенциј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тешкоће у одређивању монетарне вредности остварених бенефи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36520">
              <a:spcBef>
                <a:spcPts val="499"/>
              </a:spcBef>
              <a:buClr>
                <a:srgbClr val="ff0000"/>
              </a:buClr>
              <a:buSzPct val="5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ahoma"/>
              </a:rPr>
              <a:t>тешкоће у номенклатур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линички и хуманистички     исходи</a:t>
            </a: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 лечењ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стављају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оследиц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лечења – ефекат тј. резултат процеса лечења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инички исход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фикасност и безбедност лечењ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уманистички исход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лесников функционални статус/квалитет живота: физичке и социјалне функције, опште здравље и благостање, задовољство животом..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Економски исходи</a:t>
            </a: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 лечењ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2017440"/>
            <a:ext cx="79218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стављају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рошков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тј. вредност ресурса употребљених у процесу лечењ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ле се на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ректне трошкове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медицинск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 медицинска опрема, набавка, лаб. анализе, утрошено време медицинског особља, хоспитализација..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немедицинск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 транспорт, исхрана, породична нега, кућно лечење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директне трошкове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дна неспособност, прерана смрт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материјална добра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ahoma"/>
              </a:rPr>
              <a:t>бол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атња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Врсте фармакоекономских анализ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нализа трошкови/доби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-benefit analy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нализа трошкови/корисно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-utility analy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нализа трошкови/ефека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-effectiveness analy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нализа трошкови саме болест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-of-illnes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y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нализа минимизације трошко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-minimization analy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Фармакоекономски исход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05080" y="2637000"/>
          <a:ext cx="7200720" cy="3166920"/>
        </p:xfrm>
        <a:graphic>
          <a:graphicData uri="http://schemas.openxmlformats.org/drawingml/2006/table">
            <a:tbl>
              <a:tblPr/>
              <a:tblGrid>
                <a:gridCol w="1800000"/>
                <a:gridCol w="1800360"/>
                <a:gridCol w="1800000"/>
                <a:gridCol w="1800360"/>
              </a:tblGrid>
              <a:tr h="79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С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И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С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Ц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ХВ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ХВ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БАЦ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ДИФЕРЕНТ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ХВ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ИС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БАЦ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БАЦ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Ц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97" name="Text Box 229"/>
          <p:cNvSpPr/>
          <p:nvPr/>
        </p:nvSpPr>
        <p:spPr>
          <a:xfrm>
            <a:off x="2916360" y="2060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ТРОШКОВ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230"/>
          <p:cNvSpPr/>
          <p:nvPr/>
        </p:nvSpPr>
        <p:spPr>
          <a:xfrm rot="16200000">
            <a:off x="-306720" y="420408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КОРИСТ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(ПОСЛЕДИЦ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242"/>
          <p:cNvSpPr/>
          <p:nvPr/>
        </p:nvSpPr>
        <p:spPr>
          <a:xfrm>
            <a:off x="1403280" y="4221000"/>
            <a:ext cx="7201080" cy="7923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Анализа минимизације трошков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Дефинициј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333399"/>
                </a:solidFill>
                <a:latin typeface="Tahoma"/>
              </a:rPr>
              <a:t>Анализа минимизације трошкова је врста фармакоекономске анализе која пореди трошкове различитих начина лечења чији су клинички исходи идентичн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иљ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Одређивање најјефтиније од понуђених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ahoma"/>
              </a:rPr>
              <a:t>терапијски еквивалентних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 алтернатива у лечењ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н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Поређење паралелних леко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Поређење различитих начина дозирања једног л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Анализа минимизације трошкова</a:t>
            </a:r>
            <a:br>
              <a:rPr sz="3600"/>
            </a:br>
            <a:r>
              <a:rPr b="0" lang="sr-CS" sz="3200" spc="-1" strike="noStrike">
                <a:solidFill>
                  <a:srgbClr val="333399"/>
                </a:solidFill>
                <a:latin typeface="Tahoma"/>
              </a:rPr>
              <a:t>- утврђивање еквивалентности исхода -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За примену анализе минимизације трошкова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ahoma"/>
              </a:rPr>
              <a:t>еквивалентност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исхода алтернативних третмана мора бити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ahoma"/>
              </a:rPr>
              <a:t>клинички доказана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риликом утврђивања еквивалентности, посматрани исход мора бит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клинички значајан за пацијен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ефикас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безбед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довољно дуго праће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евалуиран у рандомизираној клиничкој студиј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студије супериор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студије не-инфериор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студије еквиваленциј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Анализа минимизације трошкова</a:t>
            </a:r>
            <a:br>
              <a:rPr sz="3600"/>
            </a:br>
            <a:r>
              <a:rPr b="0" lang="sr-CS" sz="3200" spc="-1" strike="noStrike">
                <a:solidFill>
                  <a:srgbClr val="333399"/>
                </a:solidFill>
                <a:latin typeface="Tahoma"/>
              </a:rPr>
              <a:t>- студије супериорности-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Циљ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утврдити да ли је алтернативни начин лечења ефикаснији/безбеднији од ''златног стандарда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ритеријум за процену еквивалентности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учесталост утврђених клиничких исхода алтернативног начина лечења и ''златног стандарда''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римена у анализи минимизирања трошков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резултат студије супериорности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ahoma"/>
              </a:rPr>
              <a:t>не може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 се употребити као довољан доказ еквивалентности исхода лечења алтернативним начином и ''златним стандардом''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14:03:03Z</dcterms:created>
  <dc:creator>Judy</dc:creator>
  <dc:description/>
  <dc:language>en-US</dc:language>
  <cp:lastModifiedBy>HERACLEA</cp:lastModifiedBy>
  <dcterms:modified xsi:type="dcterms:W3CDTF">2019-03-02T21:45:18Z</dcterms:modified>
  <cp:revision>200</cp:revision>
  <dc:subject/>
  <dc:title>Fluid &amp; Electrolytes Management</dc:title>
</cp:coreProperties>
</file>